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7FA1-7D34-4B66-BEA9-9E87C7FA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5D03-5EA9-4BED-A0C3-A8E6C77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FC6E-F046-404D-8F80-DB61629D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41A2-1D04-4A5F-B07D-8E182FF9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DEC9-61CE-42B0-B8D9-C4808834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F2B-CE49-42B0-9E9A-72D7D974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1630-3C96-45F5-9C19-FA535F43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BD68-CC67-42C0-974C-3E07DA5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A2A3-1E37-4F64-AAC1-8662A2B6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F921-8EB2-41A6-8A06-14146FA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B25D-97EA-4C43-BC96-80F4F65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1C2E-3DD0-4C50-A9DC-CC2F3AFE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AF38-C457-4BFA-89A1-F14286B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C931-5A72-4D81-896E-045D34E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C9F9-A0EE-4A43-8B86-D79FF7E8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5FDC-D865-4722-B102-30C150C0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E639-B075-44FE-8DA2-80125562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8097-4344-4CC9-BF17-810B9229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9153-4F92-4123-A8A2-2636262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E680-040C-488F-B7BD-74D2F82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3BC5-5C83-4238-B1CE-B5EDCAF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B96E-A354-4141-BE42-1598E72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D623-C024-411C-88EC-9D8AE9E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0411-27BC-4F31-B80A-9E2AF62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F38-4B3D-4839-87A2-BFBAED876E34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B16-5DC6-40D0-BC9C-E031527DF4C1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252360" y="394920"/>
            <a:ext cx="957744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83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Пр.394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„Пази се чист, неосквернен!"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оз глас, младежо мой засмян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о, чуй, кога лъстят злин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без милост твоите младини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" –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ъй шепне Вождът твой блажен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41440" y="940680"/>
            <a:ext cx="1008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С душа кристална всеки ден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Войник си Негов: следвай вред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ез стъпки свети, все напред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"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ъй шепне Вождът твой блажен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52360" y="372600"/>
            <a:ext cx="95774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От страшно зло обиколен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о, бягай с ветрени крил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ри Бога, вечната Скала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"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ъй шепне Вождът твой блажен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52360" y="356400"/>
            <a:ext cx="9577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 Тялото ти е храм свещен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Младежо, о, пази г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и за жилище на Дух Свети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Пази се чист, неосквернен!"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тъй шепне Вождът твой блажен.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123</cp:lastModifiedBy>
  <dcterms:modified xsi:type="dcterms:W3CDTF">2005-10-22T15:56:52Z</dcterms:modified>
  <cp:revision>217</cp:revision>
  <dc:subject/>
  <dc:title>Slide 1</dc:title>
</cp:coreProperties>
</file>